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icao.int/" TargetMode="External"/><Relationship Id="rId3" Type="http://schemas.openxmlformats.org/officeDocument/2006/relationships/hyperlink" Target="http://www.icao.int/" TargetMode="External"/><Relationship Id="rId4" Type="http://schemas.openxmlformats.org/officeDocument/2006/relationships/hyperlink" Target="http://www.icao.int/" TargetMode="External"/><Relationship Id="rId5" Type="http://schemas.openxmlformats.org/officeDocument/2006/relationships/hyperlink" Target="http://www.icao.int/" TargetMode="External"/><Relationship Id="rId6" Type="http://schemas.openxmlformats.org/officeDocument/2006/relationships/hyperlink" Target="http://www.flightsim.cz/" TargetMode="External"/><Relationship Id="rId7" Type="http://schemas.openxmlformats.org/officeDocument/2006/relationships/hyperlink" Target="http://www.flightsim.cz/" TargetMode="External"/><Relationship Id="rId8" Type="http://schemas.openxmlformats.org/officeDocument/2006/relationships/hyperlink" Target="http://www.flightsim.cz/" TargetMode="External"/><Relationship Id="rId9" Type="http://schemas.openxmlformats.org/officeDocument/2006/relationships/hyperlink" Target="http://www.flightsim.cz/" TargetMode="External"/><Relationship Id="rId10" Type="http://schemas.openxmlformats.org/officeDocument/2006/relationships/hyperlink" Target="http://www.ivao.cz/" TargetMode="External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výukový materiál</a:t>
            </a:r>
            <a:br>
              <a:rPr sz="4000"/>
            </a:b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Basic Communication</a:t>
            </a:r>
            <a:br>
              <a:rPr sz="40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J.01.01.15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Obrázek 3" descr="sablony-barevné.png"/>
          <p:cNvPicPr/>
          <p:nvPr/>
        </p:nvPicPr>
        <p:blipFill>
          <a:blip r:embed="rId1"/>
          <a:stretch/>
        </p:blipFill>
        <p:spPr>
          <a:xfrm>
            <a:off x="1403280" y="404640"/>
            <a:ext cx="6624720" cy="1366920"/>
          </a:xfrm>
          <a:prstGeom prst="rect">
            <a:avLst/>
          </a:prstGeom>
          <a:ln w="0">
            <a:noFill/>
          </a:ln>
        </p:spPr>
      </p:pic>
      <p:sp>
        <p:nvSpPr>
          <p:cNvPr id="40" name="Nadpis 1"/>
          <p:cNvSpPr/>
          <p:nvPr/>
        </p:nvSpPr>
        <p:spPr>
          <a:xfrm>
            <a:off x="826920" y="4076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ilan Junáš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Nadpis 1"/>
          <p:cNvSpPr/>
          <p:nvPr/>
        </p:nvSpPr>
        <p:spPr>
          <a:xfrm>
            <a:off x="900000" y="544500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kt:  Modernizace výuky pomocí I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Z.1.07/1.5.00/34.10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-1827360"/>
            <a:ext cx="8229600" cy="86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Credi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sentation background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Milan Juná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viation information resources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wikipedia.org </a:t>
            </a:r>
            <a:br>
              <a:rPr sz="2400"/>
            </a:b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icao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flightsim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ivao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ificati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dní škola letecké a výpočetní techniky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olena Voda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ww.sslv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Junášek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5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5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5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436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Basics of Aviatio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5373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t 8: Basic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165720"/>
            <a:ext cx="8642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i="1" lang="cs-CZ" sz="1100" spc="-1" strike="noStrike">
                <a:solidFill>
                  <a:srgbClr val="ffffff"/>
                </a:solidFill>
                <a:latin typeface="Arial"/>
              </a:rPr>
              <a:t>Autorem materiálu a všech jeho částí, není-li uvedeno jinak, je Milan Junášek.</a:t>
            </a:r>
            <a:br>
              <a:rPr sz="1100"/>
            </a:br>
            <a:r>
              <a:rPr b="0" i="1" lang="cs-CZ" sz="1100" spc="-1" strike="noStrike">
                <a:solidFill>
                  <a:srgbClr val="ffffff"/>
                </a:solidFill>
                <a:latin typeface="Arial"/>
              </a:rPr>
              <a:t>Dostupné z Metodického portálu www.rvp.cz ; ISSN 1802-4785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ffffff"/>
                </a:solidFill>
                <a:latin typeface="Arial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1214280"/>
            <a:ext cx="3672000" cy="27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Unit 8:</a:t>
            </a: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66"/>
                </a:solidFill>
                <a:latin typeface="Arial"/>
              </a:rPr>
              <a:t>Basic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Communication between the pilot and the ATC (air-traffic controller) is crucial for safety of air transportation. To be good at speaking English is not enough. You have to pass an exam and get a certificate to be allowed to fly an airplane. You already know some of the standards from Unit 6.  In this unit you are going to learn some more of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765000"/>
            <a:ext cx="76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1: Check the meaning of thes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8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Basic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557360"/>
            <a:ext cx="208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ffi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lear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r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 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ad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a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i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557360"/>
            <a:ext cx="482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tvrzu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chvá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voleno prové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olejte, přejdět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ijal (informac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právn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Usazen (v I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 dohl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 (univerzální záporná odpově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zumět (readability = srozumiteln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řipraven n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Zpoma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znamte, ohlaš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ožadu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Beru na vědomí, rozum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Opakuj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Vyčkej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vedu, vykoná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8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Basic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205000"/>
            <a:ext cx="61214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UD01, descend to FL080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vidíte před sebou přistávací dráhu) STUD01, have you got the runway in sight?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UD01, wind 210 at 4k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UD01, you are number two to land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po dosednutí, blíží se výjezd ALPHA, ale vaše rychlost je stále vysoká) STUD01, are you able to vacate via ALPHA?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UD01, you ar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zzzzzz bzzzzz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, no spee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zzzzzzz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, call back wh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bzzzzzzz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jednomu z cestujících se udělalo špatně, čekáte na vyjádření doktora, který byl na palubě) STUD01, Will you need medical assistance after lan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765000"/>
            <a:ext cx="7634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2: Imagine you are a student pilot with call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UD01. How would you respond to the ATC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just one of the previous express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28000" y="2133720"/>
            <a:ext cx="201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Wi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Af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o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o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a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Stan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8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Basic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836640"/>
            <a:ext cx="795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3: Jumbled sentences: Order the lines of a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radio exchange between </a:t>
            </a:r>
            <a:r>
              <a:rPr b="1" lang="cs-CZ" sz="2400" spc="-1" strike="noStrike" u="sng">
                <a:solidFill>
                  <a:srgbClr val="ff0000"/>
                </a:solidFill>
                <a:uFillTx/>
                <a:latin typeface="Arial"/>
              </a:rPr>
              <a:t>ATC</a:t>
            </a: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 and aircraft </a:t>
            </a:r>
            <a:r>
              <a:rPr b="1" lang="cs-CZ" sz="2400" spc="-1" strike="noStrike" u="sng">
                <a:solidFill>
                  <a:srgbClr val="1f497d"/>
                </a:solidFill>
                <a:uFillTx/>
                <a:latin typeface="Arial"/>
              </a:rPr>
              <a:t>CSA6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in your worksheet. Then check your answers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79640" y="2060640"/>
            <a:ext cx="806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Dobrý den Ruzyně ground CSA640, stand 5, request push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Dobrý den CSA640, pushback appro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Ground CSA640 after pushback, request tax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SA640 taxi to holding point 24, taxiway Al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Roger holding point 24, taxiway Alfa, CSA6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SA640 contact tower 118,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Roger changing to tower 118,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Ruzyně tower CSA640 dobrý den. Aproaching to holding point runway 24 and we are ready for depar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Roger CSA640, tower. Line up runway 24, wind 230, 6 knots, </a:t>
            </a:r>
            <a:br>
              <a:rPr sz="1800"/>
            </a:br>
            <a:r>
              <a:rPr b="1" lang="cs-CZ" sz="1800" spc="-1" strike="noStrike">
                <a:solidFill>
                  <a:srgbClr val="1f497d"/>
                </a:solidFill>
                <a:latin typeface="Arial"/>
              </a:rPr>
              <a:t>cleared for take-off. Na slyše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8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Basic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765000"/>
            <a:ext cx="7777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4: Listening to live communication on the Internet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1773360"/>
            <a:ext cx="7488360" cy="33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Internet offers you many opportunities to listen to live air traffic communication. It is the best way for future pilots / ATCs to learn it. One of the most comprehensive websites offering number of airports to listen to is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www.liveatc.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or homework, visit this website, tune in any airport and try to write down a few lines of an excha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8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Basic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his is the end of th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Well don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211640" y="486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8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Basic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765000"/>
            <a:ext cx="8642160" cy="20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Used pi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unset. russavia. [cit. 2013-02-15]. Dostupný pod licencí Creative Commons na WWW: http://en.wikipedia.org/wiki/File:Last_Glimpse_of_Sunset_%282885821239%2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Caroline on Headset MS.JPG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Rice Management. [cit. 2013-06-20]. Dostupný pod licencí Public domain na WWW: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ttp://commons.wikimedia.org/wiki/File:Caroline_on_Headset_M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07:51:30Z</dcterms:created>
  <dc:creator>Milan Junášek</dc:creator>
  <dc:description/>
  <dc:language>en-US</dc:language>
  <cp:lastModifiedBy>Milan Junášek</cp:lastModifiedBy>
  <dcterms:modified xsi:type="dcterms:W3CDTF">2013-07-02T06:57:42Z</dcterms:modified>
  <cp:revision>301</cp:revision>
  <dc:subject/>
  <dc:title>Snímek 1</dc:title>
</cp:coreProperties>
</file>