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chimes.wav" ContentType="audio/x-wav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icao.int/" TargetMode="External"/><Relationship Id="rId3" Type="http://schemas.openxmlformats.org/officeDocument/2006/relationships/hyperlink" Target="http://www.icao.int/" TargetMode="External"/><Relationship Id="rId4" Type="http://schemas.openxmlformats.org/officeDocument/2006/relationships/hyperlink" Target="http://www.icao.int/" TargetMode="External"/><Relationship Id="rId5" Type="http://schemas.openxmlformats.org/officeDocument/2006/relationships/hyperlink" Target="http://www.icao.int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1916280"/>
            <a:ext cx="7772400" cy="23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6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výukový materiál</a:t>
            </a:r>
            <a:br>
              <a:rPr sz="4000"/>
            </a:br>
            <a:r>
              <a:rPr b="1" lang="cs-CZ" sz="4000" spc="-1" strike="noStrike" u="sng">
                <a:solidFill>
                  <a:srgbClr val="000000"/>
                </a:solidFill>
                <a:uFillTx/>
                <a:latin typeface="Arial"/>
              </a:rPr>
              <a:t>Stages of Flight</a:t>
            </a:r>
            <a:br>
              <a:rPr sz="40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J.01.01.13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" name="Obrázek 3" descr="sablony-barevné.png"/>
          <p:cNvPicPr/>
          <p:nvPr/>
        </p:nvPicPr>
        <p:blipFill>
          <a:blip r:embed="rId1"/>
          <a:stretch/>
        </p:blipFill>
        <p:spPr>
          <a:xfrm>
            <a:off x="1403280" y="404640"/>
            <a:ext cx="6624720" cy="1366920"/>
          </a:xfrm>
          <a:prstGeom prst="rect">
            <a:avLst/>
          </a:prstGeom>
          <a:ln w="0">
            <a:noFill/>
          </a:ln>
        </p:spPr>
      </p:pic>
      <p:sp>
        <p:nvSpPr>
          <p:cNvPr id="40" name="Nadpis 1"/>
          <p:cNvSpPr/>
          <p:nvPr/>
        </p:nvSpPr>
        <p:spPr>
          <a:xfrm>
            <a:off x="826920" y="407664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Milan Junáš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Nadpis 1"/>
          <p:cNvSpPr/>
          <p:nvPr/>
        </p:nvSpPr>
        <p:spPr>
          <a:xfrm>
            <a:off x="900000" y="544500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kt:  Modernizace výuky pomocí I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Z.1.07/1.5.00/34.10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5280" y="-1827360"/>
            <a:ext cx="8229600" cy="868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Arial"/>
              </a:rPr>
              <a:t>Credi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esentation background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ff"/>
                </a:solidFill>
                <a:latin typeface="Arial"/>
              </a:rPr>
              <a:t>Milan Junáš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viation information resources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.wikipedia.org </a:t>
            </a:r>
            <a:br>
              <a:rPr sz="2400"/>
            </a:b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icao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.flightsim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ww.ivao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erification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řední škola letecké a výpočetní techniky, </a:t>
            </a: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dolena Voda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www.sslvt.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ilan Junášek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5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5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5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5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5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5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5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5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5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5000" fill="hold"/>
                                        <p:tgtEl>
                                          <p:spTgt spid="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5000" fill="hold"/>
                                        <p:tgtEl>
                                          <p:spTgt spid="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4436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Basics of Aviation Engl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5373720"/>
            <a:ext cx="6400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nit 7: Stages of F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6165720"/>
            <a:ext cx="864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8360" y="1287360"/>
            <a:ext cx="4174920" cy="26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Arial"/>
              </a:rPr>
              <a:t>Unit 7:</a:t>
            </a:r>
            <a:r>
              <a:rPr b="1" lang="cs-CZ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cs-CZ" sz="4400" spc="-1" strike="noStrike">
                <a:solidFill>
                  <a:srgbClr val="000066"/>
                </a:solidFill>
                <a:latin typeface="Arial"/>
              </a:rPr>
              <a:t>Stages of Fl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00"/>
                </a:solidFill>
                <a:latin typeface="Arial"/>
              </a:rPr>
              <a:t>A flight of any airplane consists of many different parts – stages. Each of these stages has its principles and rules which have to be followed to make the flight sa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16000" y="765000"/>
            <a:ext cx="7634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Task 1: Put the stages of flight in your worksheet into the correct order. Watch the presentation to che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Unit 7:</a:t>
            </a: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000066"/>
                </a:solidFill>
                <a:latin typeface="Arial"/>
              </a:rPr>
              <a:t>Stages of Fl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2708280"/>
            <a:ext cx="7201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and at the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ngine start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ush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axi to the holding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old short for landing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ine up the run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ake-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itial c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1844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On the ground and Take off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219640" y="2708280"/>
            <a:ext cx="316872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Unit 7:</a:t>
            </a: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000066"/>
                </a:solidFill>
                <a:latin typeface="Arial"/>
              </a:rPr>
              <a:t>Stages of Fligh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981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En route, approach  and after landing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1916280"/>
            <a:ext cx="7201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li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ruise /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esc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acate the run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axi to the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ngine shut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211640" y="1989000"/>
            <a:ext cx="425304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Unit 7:</a:t>
            </a: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000066"/>
                </a:solidFill>
                <a:latin typeface="Arial"/>
              </a:rPr>
              <a:t>Stages of Fligh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836640"/>
            <a:ext cx="777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Task 2: When (before, during or after which stage) do these events take pla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2060640"/>
            <a:ext cx="568800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he pilot turns on the beacon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he pilot retracts the landing g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he flight attendant gives the passengers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afety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he pilot applies reverse th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he ATC clears the aircraft to change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ligh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he pilot extends the fl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he ATC clears the aircraft to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80000" y="2060640"/>
            <a:ext cx="34196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Before engine start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After take-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During taxiing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After landing (touchdow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During cruise / en rout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Before l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During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Unit 7:</a:t>
            </a: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000066"/>
                </a:solidFill>
                <a:latin typeface="Arial"/>
              </a:rPr>
              <a:t>Stages of Fligh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765000"/>
            <a:ext cx="777744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Task 3: Look at picture of standard flight pattern for V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flights in your tasksheet. Label its legs (parts) using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words from the bo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9640" y="836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484360" y="2565360"/>
            <a:ext cx="4152960" cy="2179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8360" y="2060640"/>
            <a:ext cx="748836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Crosswind leg                                                               Base l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Downwind l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Unit 7:</a:t>
            </a: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000066"/>
                </a:solidFill>
                <a:latin typeface="Arial"/>
              </a:rPr>
              <a:t>Stages of Fligh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his is the end of th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Well done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3716280"/>
            <a:ext cx="7993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Don´t forget there is one more task for you in your worksh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11640" y="4869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Arial"/>
              </a:rPr>
              <a:t>Unit 7:</a:t>
            </a:r>
            <a:r>
              <a:rPr b="1" lang="cs-CZ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000066"/>
                </a:solidFill>
                <a:latin typeface="Arial"/>
              </a:rPr>
              <a:t>Stages of Fligh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765000"/>
            <a:ext cx="86421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Used pic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unset. russavia. [cit. 2013-02-15]. Dostupný pod licencí Creative Commons na WWW: http://en.wikipedia.org/wiki/File:Last_Glimpse_of_Sunset_%282885821239%29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07:51:30Z</dcterms:created>
  <dc:creator>Milan Junášek</dc:creator>
  <dc:description/>
  <dc:language>en-US</dc:language>
  <cp:lastModifiedBy>Milan Junášek</cp:lastModifiedBy>
  <dcterms:modified xsi:type="dcterms:W3CDTF">2013-07-02T06:55:27Z</dcterms:modified>
  <cp:revision>268</cp:revision>
  <dc:subject/>
  <dc:title>Snímek 1</dc:title>
</cp:coreProperties>
</file>