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s.wikipedia.org/wiki/Soubor:Fire_prevention_week_at_Guantanamo_-e.jpg" TargetMode="External"/><Relationship Id="rId3" Type="http://schemas.openxmlformats.org/officeDocument/2006/relationships/hyperlink" Target="http://cs.wikipedia.org/wiki/Soubor:Lynx_Mk-95_VDG_DN-SD-01-04936.jpg" TargetMode="External"/><Relationship Id="rId4" Type="http://schemas.openxmlformats.org/officeDocument/2006/relationships/hyperlink" Target="http://cs.wikipedia.org/wiki/Soubor:Defense.gov_News_Photo_000824-F-4064D-003.jpg" TargetMode="External"/><Relationship Id="rId5" Type="http://schemas.openxmlformats.org/officeDocument/2006/relationships/hyperlink" Target="http://commons.wikimedia.org/wiki/User:Russavia" TargetMode="External"/><Relationship Id="rId6" Type="http://schemas.openxmlformats.org/officeDocument/2006/relationships/hyperlink" Target="http://en.wikipedia.org/wiki/File:Last_Glimpse_of_Sunset_%282885821239%29.jpg" TargetMode="External"/><Relationship Id="rId7" Type="http://schemas.openxmlformats.org/officeDocument/2006/relationships/hyperlink" Target="http://en.wikipedia.org/wiki/File:Last_Glimpse_of_Sunset_%282885821239%29.jpg" TargetMode="External"/><Relationship Id="rId8" Type="http://schemas.openxmlformats.org/officeDocument/2006/relationships/hyperlink" Target="http://en.wikipedia.org/wiki/File:Last_Glimpse_of_Sunset_%282885821239%29.jpg" TargetMode="External"/><Relationship Id="rId9" Type="http://schemas.openxmlformats.org/officeDocument/2006/relationships/hyperlink" Target="http://en.wikipedia.org/wiki/File:Last_Glimpse_of_Sunset_%282885821239%29.jpg" TargetMode="External"/><Relationship Id="rId10" Type="http://schemas.openxmlformats.org/officeDocument/2006/relationships/hyperlink" Target="http://en.wikipedia.org/wiki/File:Last_Glimpse_of_Sunset_%282885821239%29.jpg" TargetMode="External"/><Relationship Id="rId11" Type="http://schemas.openxmlformats.org/officeDocument/2006/relationships/hyperlink" Target="http://en.wikipedia.org/wiki/File:Last_Glimpse_of_Sunset_%282885821239%29.jpg" TargetMode="External"/><Relationship Id="rId12" Type="http://schemas.openxmlformats.org/officeDocument/2006/relationships/hyperlink" Target="http://en.wikipedia.org/wiki/File:Last_Glimpse_of_Sunset_%282885821239%29.jpg" TargetMode="External"/><Relationship Id="rId13" Type="http://schemas.openxmlformats.org/officeDocument/2006/relationships/hyperlink" Target="http://en.wikipedia.org/wiki/File:Last_Glimpse_of_Sunset_%282885821239%29.jpg" TargetMode="External"/><Relationship Id="rId14" Type="http://schemas.openxmlformats.org/officeDocument/2006/relationships/hyperlink" Target="http://en.wikipedia.org/wiki/File:Last_Glimpse_of_Sunset_%282885821239%29.jpg" TargetMode="External"/><Relationship Id="rId15" Type="http://schemas.openxmlformats.org/officeDocument/2006/relationships/hyperlink" Target="http://en.wikipedia.org/wiki/File:Last_Glimpse_of_Sunset_%282885821239%29.jpg" TargetMode="External"/><Relationship Id="rId16" Type="http://schemas.openxmlformats.org/officeDocument/2006/relationships/hyperlink" Target="http://en.wikipedia.org/wiki/File:Last_Glimpse_of_Sunset_%282885821239%29.jpg" TargetMode="External"/><Relationship Id="rId17" Type="http://schemas.openxmlformats.org/officeDocument/2006/relationships/hyperlink" Target="http://en.wikipedia.org/wiki/File:Last_Glimpse_of_Sunset_%282885821239%29.jpg" TargetMode="External"/><Relationship Id="rId18" Type="http://schemas.openxmlformats.org/officeDocument/2006/relationships/hyperlink" Target="http://en.wikipedia.org/wiki/File:Last_Glimpse_of_Sunset_%282885821239%29.jpg" TargetMode="External"/><Relationship Id="rId19" Type="http://schemas.openxmlformats.org/officeDocument/2006/relationships/hyperlink" Target="http://en.wikipedia.org/wiki/File:Last_Glimpse_of_Sunset_%282885821239%29.jpg" TargetMode="External"/><Relationship Id="rId20" Type="http://schemas.openxmlformats.org/officeDocument/2006/relationships/hyperlink" Target="http://en.wikipedia.org/wiki/File:Last_Glimpse_of_Sunset_%282885821239%29.jpg" TargetMode="External"/><Relationship Id="rId21" Type="http://schemas.openxmlformats.org/officeDocument/2006/relationships/hyperlink" Target="http://en.wikipedia.org/wiki/File:Last_Glimpse_of_Sunset_%282885821239%29.jpg" TargetMode="External"/><Relationship Id="rId22" Type="http://schemas.openxmlformats.org/officeDocument/2006/relationships/hyperlink" Target="http://en.wikipedia.org/wiki/File:Last_Glimpse_of_Sunset_%282885821239%29.jpg" TargetMode="External"/><Relationship Id="rId23" Type="http://schemas.openxmlformats.org/officeDocument/2006/relationships/hyperlink" Target="http://en.wikipedia.org/wiki/File:Last_Glimpse_of_Sunset_%282885821239%29.jpg" TargetMode="External"/><Relationship Id="rId2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wikimedia.org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hyperlink" Target="http://www.icao.int/" TargetMode="External"/><Relationship Id="rId5" Type="http://schemas.openxmlformats.org/officeDocument/2006/relationships/hyperlink" Target="http://www.icao.int/" TargetMode="External"/><Relationship Id="rId6" Type="http://schemas.openxmlformats.org/officeDocument/2006/relationships/hyperlink" Target="http://www.icao.int/" TargetMode="External"/><Relationship Id="rId7" Type="http://schemas.openxmlformats.org/officeDocument/2006/relationships/hyperlink" Target="http://www.icao.int/" TargetMode="External"/><Relationship Id="rId8" Type="http://schemas.openxmlformats.org/officeDocument/2006/relationships/hyperlink" Target="http://www.flightsim.cz/" TargetMode="External"/><Relationship Id="rId9" Type="http://schemas.openxmlformats.org/officeDocument/2006/relationships/hyperlink" Target="http://www.flightsim.cz/" TargetMode="External"/><Relationship Id="rId10" Type="http://schemas.openxmlformats.org/officeDocument/2006/relationships/hyperlink" Target="http://www.flightsim.cz/" TargetMode="External"/><Relationship Id="rId11" Type="http://schemas.openxmlformats.org/officeDocument/2006/relationships/hyperlink" Target="http://www.flightsim.cz/" TargetMode="External"/><Relationship Id="rId12" Type="http://schemas.openxmlformats.org/officeDocument/2006/relationships/hyperlink" Target="http://www.ivao.cz/" TargetMode="External"/><Relationship Id="rId13" Type="http://schemas.openxmlformats.org/officeDocument/2006/relationships/hyperlink" Target="http://www.sslvt.cz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3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s.wikipedia.org/wiki/Soubor:Large-Scale_Low-Boom_Supersonic_Inlet_Model.jpg" TargetMode="External"/><Relationship Id="rId3" Type="http://schemas.openxmlformats.org/officeDocument/2006/relationships/hyperlink" Target="http://cs.wikipedia.org/wiki/Soubor:Large-Scale_Low-Boom_Supersonic_Inlet_Model.jpg" TargetMode="External"/><Relationship Id="rId4" Type="http://schemas.openxmlformats.org/officeDocument/2006/relationships/hyperlink" Target="http://cs.wikipedia.org/wiki/Soubor:Large-Scale_Low-Boom_Supersonic_Inlet_Model.jpg" TargetMode="External"/><Relationship Id="rId5" Type="http://schemas.openxmlformats.org/officeDocument/2006/relationships/hyperlink" Target="http://cs.wikipedia.org/wiki/Soubor:Large-Scale_Low-Boom_Supersonic_Inlet_Model.jpg" TargetMode="External"/><Relationship Id="rId6" Type="http://schemas.openxmlformats.org/officeDocument/2006/relationships/hyperlink" Target="http://cs.wikipedia.org/wiki/Soubor:Large-Scale_Low-Boom_Supersonic_Inlet_Model.jpg" TargetMode="External"/><Relationship Id="rId7" Type="http://schemas.openxmlformats.org/officeDocument/2006/relationships/hyperlink" Target="http://cs.wikipedia.org/wiki/Soubor:Large-Scale_Low-Boom_Supersonic_Inlet_Model.jpg" TargetMode="External"/><Relationship Id="rId8" Type="http://schemas.openxmlformats.org/officeDocument/2006/relationships/hyperlink" Target="http://cs.wikipedia.org/wiki/Soubor:Large-Scale_Low-Boom_Supersonic_Inlet_Model.jpg" TargetMode="External"/><Relationship Id="rId9" Type="http://schemas.openxmlformats.org/officeDocument/2006/relationships/hyperlink" Target="http://cs.wikipedia.org/wiki/Soubor:Large-Scale_Low-Boom_Supersonic_Inlet_Model.jpg" TargetMode="External"/><Relationship Id="rId10" Type="http://schemas.openxmlformats.org/officeDocument/2006/relationships/hyperlink" Target="http://cs.wikipedia.org/wiki/Soubor:Large-Scale_Low-Boom_Supersonic_Inlet_Model.jpg" TargetMode="External"/><Relationship Id="rId11" Type="http://schemas.openxmlformats.org/officeDocument/2006/relationships/hyperlink" Target="http://cs.wikipedia.org/wiki/Soubor:Large-Scale_Low-Boom_Supersonic_Inlet_Model.jpg" TargetMode="External"/><Relationship Id="rId12" Type="http://schemas.openxmlformats.org/officeDocument/2006/relationships/hyperlink" Target="http://cs.wikipedia.org/wiki/Soubor:Large-Scale_Low-Boom_Supersonic_Inlet_Model.jpg" TargetMode="External"/><Relationship Id="rId13" Type="http://schemas.openxmlformats.org/officeDocument/2006/relationships/hyperlink" Target="http://cs.wikipedia.org/wiki/Soubor:Large-Scale_Low-Boom_Supersonic_Inlet_Model.jpg" TargetMode="External"/><Relationship Id="rId14" Type="http://schemas.openxmlformats.org/officeDocument/2006/relationships/hyperlink" Target="http://cs.wikipedia.org/wiki/Soubor:Large-Scale_Low-Boom_Supersonic_Inlet_Model.jpg" TargetMode="External"/><Relationship Id="rId15" Type="http://schemas.openxmlformats.org/officeDocument/2006/relationships/hyperlink" Target="http://cs.wikipedia.org/wiki/Soubor:Large-Scale_Low-Boom_Supersonic_Inlet_Model.jpg" TargetMode="External"/><Relationship Id="rId16" Type="http://schemas.openxmlformats.org/officeDocument/2006/relationships/hyperlink" Target="http://cs.wikipedia.org/wiki/Soubor:Large-Scale_Low-Boom_Supersonic_Inlet_Model.jpg" TargetMode="External"/><Relationship Id="rId17" Type="http://schemas.openxmlformats.org/officeDocument/2006/relationships/hyperlink" Target="http://cs.wikipedia.org/wiki/Soubor:Large-Scale_Low-Boom_Supersonic_Inlet_Model.jpg" TargetMode="External"/><Relationship Id="rId18" Type="http://schemas.openxmlformats.org/officeDocument/2006/relationships/hyperlink" Target="http://cs.wikipedia.org/wiki/Soubor:Large-Scale_Low-Boom_Supersonic_Inlet_Model.jpg" TargetMode="External"/><Relationship Id="rId19" Type="http://schemas.openxmlformats.org/officeDocument/2006/relationships/hyperlink" Target="http://cs.wikipedia.org/wiki/Soubor:Large-Scale_Low-Boom_Supersonic_Inlet_Model.jpg" TargetMode="External"/><Relationship Id="rId20" Type="http://schemas.openxmlformats.org/officeDocument/2006/relationships/hyperlink" Target="http://cs.wikipedia.org/wiki/Soubor:Large-Scale_Low-Boom_Supersonic_Inlet_Model.jpg" TargetMode="External"/><Relationship Id="rId21" Type="http://schemas.openxmlformats.org/officeDocument/2006/relationships/hyperlink" Target="http://cs.wikipedia.org/wiki/Soubor:Large-Scale_Low-Boom_Supersonic_Inlet_Model.jpg" TargetMode="External"/><Relationship Id="rId22" Type="http://schemas.openxmlformats.org/officeDocument/2006/relationships/hyperlink" Target="http://commons.wikimedia.org/w/index.php?title=User:Thiagosouza444&amp;action=edit&amp;redlink=1" TargetMode="External"/><Relationship Id="rId23" Type="http://schemas.openxmlformats.org/officeDocument/2006/relationships/hyperlink" Target="http://cs.wikipedia.org/wiki/Soubor:TAM_Flight_Attendant.jpg" TargetMode="External"/><Relationship Id="rId24" Type="http://schemas.openxmlformats.org/officeDocument/2006/relationships/hyperlink" Target="http://cs.wikipedia.org/wiki/Soubor:Wreckage_from_Arrow_Air_Flight_1285_in_storage.jpg" TargetMode="External"/><Relationship Id="rId25" Type="http://schemas.openxmlformats.org/officeDocument/2006/relationships/hyperlink" Target="http://cs.wikipedia.org/wiki/Soubor:Screening_Checkpoint_Boston_Logan.jpg" TargetMode="External"/><Relationship Id="rId26" Type="http://schemas.openxmlformats.org/officeDocument/2006/relationships/hyperlink" Target="http://cs.wikipedia.org/wiki/Soubor:US_Navy_091004-N-8960W-014_Interior_Communications_Electrician_3rd_Class_Karla_Martinez_inspects_wiring_aboard_the_aircraft_carrier_USS_Nimitz_%28CVN_68%29.jpg" TargetMode="External"/><Relationship Id="rId27" Type="http://schemas.openxmlformats.org/officeDocument/2006/relationships/hyperlink" Target="http://cs.wikipedia.org/wiki/Soubor:US_Navy_070802-N-0000X-001_Aircraft_engine_mechanic_Jesse_Beverly_works_on_a_General_Electric_LM2500_gas_turbines_engine_in_Building_472.jpg" TargetMode="External"/><Relationship Id="rId28" Type="http://schemas.openxmlformats.org/officeDocument/2006/relationships/hyperlink" Target="http://commons.wikimedia.org/w/index.php?title=User:Dmitrij.shpilchevskij&amp;action=edit&amp;redlink=1" TargetMode="External"/><Relationship Id="rId29" Type="http://schemas.openxmlformats.org/officeDocument/2006/relationships/hyperlink" Target="http://commons.wikimedia.org/w/index.php?title=User:Dmitrij.shpilchevskij&amp;action=edit&amp;redlink=1" TargetMode="External"/><Relationship Id="rId30" Type="http://schemas.openxmlformats.org/officeDocument/2006/relationships/hyperlink" Target="http://commons.wikimedia.org/w/index.php?title=User:Dmitrij.shpilchevskij&amp;action=edit&amp;redlink=1" TargetMode="External"/><Relationship Id="rId31" Type="http://schemas.openxmlformats.org/officeDocument/2006/relationships/hyperlink" Target="http://cs.wikipedia.org/wiki/Soubor:Aerosvit_Boeing-737-400_UR-VVP_pilot_cabin.jpg" TargetMode="External"/><Relationship Id="rId3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výukový materiál</a:t>
            </a:r>
            <a:br>
              <a:rPr sz="4000"/>
            </a:b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eople and Jobs</a:t>
            </a:r>
            <a:br>
              <a:rPr sz="40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J.01.01.03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Obrázek 3" descr="sablony-barevné.png"/>
          <p:cNvPicPr/>
          <p:nvPr/>
        </p:nvPicPr>
        <p:blipFill>
          <a:blip r:embed="rId1"/>
          <a:stretch/>
        </p:blipFill>
        <p:spPr>
          <a:xfrm>
            <a:off x="1403280" y="404640"/>
            <a:ext cx="6624720" cy="1366920"/>
          </a:xfrm>
          <a:prstGeom prst="rect">
            <a:avLst/>
          </a:prstGeom>
          <a:ln w="0">
            <a:noFill/>
          </a:ln>
        </p:spPr>
      </p:pic>
      <p:sp>
        <p:nvSpPr>
          <p:cNvPr id="41" name="Nadpis 1"/>
          <p:cNvSpPr/>
          <p:nvPr/>
        </p:nvSpPr>
        <p:spPr>
          <a:xfrm>
            <a:off x="826920" y="4076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ilan Junáš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Nadpis 1"/>
          <p:cNvSpPr/>
          <p:nvPr/>
        </p:nvSpPr>
        <p:spPr>
          <a:xfrm>
            <a:off x="900000" y="544500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kt:  Modernizace výuky pomocí I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Z.1.07/1.5.00/34.10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2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People and Jo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765000"/>
            <a:ext cx="864216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Used pi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ire prevention. Navy Mass Communication Specialists 2nd Class Elisha Dawkins and Wesley Kreiss. [cit. 2013-02-26]. Dostupný pod licencí Public domain na WWW: </a:t>
            </a:r>
            <a:br>
              <a:rPr sz="1200"/>
            </a:b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s.wikipedia.org/wiki/Soubor:Fire_prevention_week_at_Guantanamo_-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ynx Mk-95 (ground crew). PH1 TODD P. CICHONOWICZ, USN. [cit. 2013-02-26]. Dostupný pod licencí Public domain na WWW: </a:t>
            </a:r>
            <a:br>
              <a:rPr sz="1200"/>
            </a:b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cs.wikipedia.org/wiki/Soubor:Lynx_Mk-95_VDG_DN-SD-01-0493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fense gov. – Jet Pilot. U.S. Department of Defence. [cit. 2013-02-26]. Dostupný pod licencí Public domain na WWW: </a:t>
            </a:r>
            <a:br>
              <a:rPr sz="1200"/>
            </a:b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cs.wikipedia.org/wiki/Soubor:Defense.gov_News_Photo_000824-F-4064D-00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S Navy Navigator. United States Navy. [cit. 2013-02-26]. Dostupný pod licencí Public domain na WWW: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US_Navy_040818-N-2559S-013_Patrol_Squadron_Three_Zero_%28VP-30%29_navigator,_Ensign_Jeremy_M._Hansler,_checks_the_aircrafts_position_during_a_cross-country_flight_in_a_P-3C_Or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S Navy – Air Traffic Controller. U.S. Navy. [cit. 2013-02-26]. Dostupný pod licencí Public domain na WWW: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s.wikipedia.org/wiki/Soubor:US_Navy_061209-N-5248R-001_Air_Traffic_Controller_2nd_Class_Emmily_Trolinger_from_Farmington,_Mo.,_stands_watch_as_aircraft_departure_controller_in_Carrier_Air_Traffic_Control_Cente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unset.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russavi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[cit. 2013-02-15]. Dostupný pod licencí Creative Commons na WWW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en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wikipedia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org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wiki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File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Last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_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Glimpse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_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of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_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Sunset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_%282885821239%29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-387720"/>
            <a:ext cx="82296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Credi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sentation background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Milan Junáš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obs images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wikimedi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viation information resources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wikipedi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cao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www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flightsim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www.ivao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ificati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řední škola letecké a výpočetní techniky,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olena Voda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www.sslv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Junáše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5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0" fill="hold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436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Basics of Aviatio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537372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it 2: People and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6165720"/>
            <a:ext cx="864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1030320"/>
            <a:ext cx="3960720" cy="29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Unit 2:</a:t>
            </a: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0066"/>
                </a:solidFill>
                <a:latin typeface="Arial"/>
              </a:rPr>
              <a:t>People and J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There are not only pilots who have something to do with airplanes and flying. Can you think of some more jobs related to avi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2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People and Jo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8920" y="764640"/>
            <a:ext cx="7634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1: Here is a list of some typical jobs in avi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Check you can understand their mea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77336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ir safety investigator / insp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ecurity gu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irline pi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echan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flight attendant / steward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erospace engin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electric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ground handling sta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ilitary jet pi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ir traffic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firefighter / fire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1773360"/>
            <a:ext cx="493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vyšetřovatel bezpečnosti let. provoz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člen ochran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dopravní pi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mechan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palubní průvodčí (letušk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navigátor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letecký konstrukté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elekriká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pracovník pozemního odbav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vojenský pilot, stíha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řídící letového provoz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hasi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2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People and Jo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458136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Arial"/>
              </a:rPr>
              <a:t>Are you rea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907920"/>
            <a:ext cx="76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2: Jobs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80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You are now going to see a sequence of pictures representing the jobs from the previous scre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e the list of the jobs in your worksheets and label each of them using numbers 1 – 12 as they appear on the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2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People and Jo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ell done! Now you can check your ans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with your classmates or the teac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155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5079960" cy="338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24000" y="2133720"/>
            <a:ext cx="5040360" cy="335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050920" y="2133720"/>
            <a:ext cx="5185080" cy="3378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124000" y="2133720"/>
            <a:ext cx="4967280" cy="3287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340000" y="213372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556000" y="2133720"/>
            <a:ext cx="4176720" cy="3438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2411280" y="213372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2195640" y="2133720"/>
            <a:ext cx="4897440" cy="328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2050920" y="2133720"/>
            <a:ext cx="5113440" cy="339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2195640" y="2133720"/>
            <a:ext cx="4897440" cy="3493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3059280" y="1989000"/>
            <a:ext cx="3046320" cy="403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3059280" y="1989000"/>
            <a:ext cx="3024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00"/>
                            </p:stCondLst>
                            <p:childTnLst>
                              <p:par>
                                <p:cTn id="8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0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000"/>
                            </p:stCondLst>
                            <p:childTnLst>
                              <p:par>
                                <p:cTn id="15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5000"/>
                            </p:stCondLst>
                            <p:childTnLst>
                              <p:par>
                                <p:cTn id="17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6500"/>
                            </p:stCondLst>
                            <p:childTnLst>
                              <p:par>
                                <p:cTn id="186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3500"/>
                            </p:stCondLst>
                            <p:childTnLst>
                              <p:par>
                                <p:cTn id="200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60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7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3000"/>
                            </p:stCondLst>
                            <p:childTnLst>
                              <p:par>
                                <p:cTn id="23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2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People and Jo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907920"/>
            <a:ext cx="76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3: Read the descriptions and identify the j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1773360"/>
            <a:ext cx="58672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his person flies planes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his person repairs the plane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his person serves food and drink and looks after passengers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his person gives instructions to pilots and is responsible for safe flight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his person designs new planes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his person puts out fires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his person protects the airspace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10360" y="1773360"/>
            <a:ext cx="2933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pi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mechan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flight attend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air traffic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aerospace engin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firefighter / fire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ff0000"/>
                </a:solidFill>
                <a:latin typeface="Arial"/>
              </a:rPr>
              <a:t>military pi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2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People and Jo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his is the end of th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Well don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3860640"/>
            <a:ext cx="7993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And again - don´t forget there is one more task for you in your worksh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486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2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People and Job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765000"/>
            <a:ext cx="864216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Used pi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erospace Engineer. NASA/Bridget R. Caswell. [cit. 2013-02-26]. Dostupný pod licencí Public domain na WWW: </a:t>
            </a:r>
            <a:br>
              <a:rPr sz="1200"/>
            </a:b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cs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wikipedia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org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wiki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Soubor: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Large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-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Scale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_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Low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-Boom_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Supersonic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_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Inlet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_Model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M Flight Attendant.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Thiagosouza44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[cit. 2013-02-26]. Dostupný pod licencí Creative Commons na WWW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cs.wikipedia.org/wiki/Soubor:TAM_Flight_Attendan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reckage. SSGT Arnold W. Kalmanson. [cit. 2013-02-26]. Dostupný pod licencí Public domain na WWW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cs.wikipedia.org/wiki/Soubor:Wreckage_from_Arrow_Air_Flight_1285_in_storag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creening Security. U.S. Federal Government (Transportation Security Administration). [cit. 2013-02-26]. Dostupný pod licencí Public domain na WWW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http://cs.wikipedia.org/wiki/Soubor:Screening_Checkpoint_Boston_Loga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lectrician. United States Navy. [cit. 2013-02-26]. Dostupný pod licencí Public domain na WWW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http://cs.wikipedia.org/wiki/Soubor:US_Navy_091004-N-8960W-014_Interior_Communications_Electrician_3rd_Class_Karla_Martinez_inspects_wiring_aboard_the_aircraft_carrier_USS_Nimitz_%28CVN_68%2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ircraft Mechanic. United States Navy. [cit. 2013-02-26]. Dostupný pod licencí Public domain na WWW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http://cs.wikipedia.org/wiki/Soubor:US_Navy_070802-N-0000X-001_Aircraft_engine_mechanic_Jesse_Beverly_works_on_a_General_Electric_LM2500_gas_turbines_engine_in_Building_47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erosvit Boeing Cockpit.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Dmitrij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29"/>
              </a:rPr>
              <a:t>.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30"/>
              </a:rPr>
              <a:t>shpilchevskij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[cit. 2013-02-26]. Dostupný pod licencí Creative Commons na WWW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Arial"/>
                <a:hlinkClick r:id="rId31"/>
              </a:rPr>
              <a:t>http://cs.wikipedia.org/wiki/Soubor:Aerosvit_Boeing-737-400_UR-VVP_pilot_cabi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07:51:30Z</dcterms:created>
  <dc:creator>Milan Junášek</dc:creator>
  <dc:description/>
  <dc:language>en-US</dc:language>
  <cp:lastModifiedBy>Milan Junášek</cp:lastModifiedBy>
  <dcterms:modified xsi:type="dcterms:W3CDTF">2013-07-02T06:26:59Z</dcterms:modified>
  <cp:revision>128</cp:revision>
  <dc:subject/>
  <dc:title>Snímek 1</dc:title>
</cp:coreProperties>
</file>