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381720"/>
            <a:ext cx="748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ommons.wikimedia.org/wiki/User:Heidas" TargetMode="External"/><Relationship Id="rId3" Type="http://schemas.openxmlformats.org/officeDocument/2006/relationships/hyperlink" Target="http://commons.wikimedia.org/w/index.php?title=User:Wakowlk&amp;action=edit&amp;redlink=1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wikimedia.org/" TargetMode="External"/><Relationship Id="rId3" Type="http://schemas.openxmlformats.org/officeDocument/2006/relationships/hyperlink" Target="http://www.wikimedia.org/" TargetMode="External"/><Relationship Id="rId4" Type="http://schemas.openxmlformats.org/officeDocument/2006/relationships/hyperlink" Target="http://www.wikimedia.org/" TargetMode="External"/><Relationship Id="rId5" Type="http://schemas.openxmlformats.org/officeDocument/2006/relationships/hyperlink" Target="http://www.wikimedia.org/" TargetMode="External"/><Relationship Id="rId6" Type="http://schemas.openxmlformats.org/officeDocument/2006/relationships/hyperlink" Target="http://www.wikipedia.org/" TargetMode="External"/><Relationship Id="rId7" Type="http://schemas.openxmlformats.org/officeDocument/2006/relationships/hyperlink" Target="http://www.wikipedia.org/" TargetMode="External"/><Relationship Id="rId8" Type="http://schemas.openxmlformats.org/officeDocument/2006/relationships/hyperlink" Target="http://www.wikipedia.org/" TargetMode="External"/><Relationship Id="rId9" Type="http://schemas.openxmlformats.org/officeDocument/2006/relationships/hyperlink" Target="http://www.wikipedia.org/" TargetMode="External"/><Relationship Id="rId10" Type="http://schemas.openxmlformats.org/officeDocument/2006/relationships/hyperlink" Target="http://www.icao.int/" TargetMode="External"/><Relationship Id="rId11" Type="http://schemas.openxmlformats.org/officeDocument/2006/relationships/hyperlink" Target="http://www.icao.int/" TargetMode="External"/><Relationship Id="rId12" Type="http://schemas.openxmlformats.org/officeDocument/2006/relationships/hyperlink" Target="http://www.icao.int/" TargetMode="External"/><Relationship Id="rId13" Type="http://schemas.openxmlformats.org/officeDocument/2006/relationships/hyperlink" Target="http://www.icao.int/" TargetMode="External"/><Relationship Id="rId14" Type="http://schemas.openxmlformats.org/officeDocument/2006/relationships/hyperlink" Target="http://www.flightsim.cz/" TargetMode="External"/><Relationship Id="rId15" Type="http://schemas.openxmlformats.org/officeDocument/2006/relationships/hyperlink" Target="http://www.flightsim.cz/" TargetMode="External"/><Relationship Id="rId16" Type="http://schemas.openxmlformats.org/officeDocument/2006/relationships/hyperlink" Target="http://www.flightsim.cz/" TargetMode="External"/><Relationship Id="rId17" Type="http://schemas.openxmlformats.org/officeDocument/2006/relationships/hyperlink" Target="http://www.flightsim.cz/" TargetMode="External"/><Relationship Id="rId18" Type="http://schemas.openxmlformats.org/officeDocument/2006/relationships/hyperlink" Target="http://www.ivao.cz/" TargetMode="External"/><Relationship Id="rId19" Type="http://schemas.openxmlformats.org/officeDocument/2006/relationships/hyperlink" Target="http://www.sslvt.cz/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výukový materiál</a:t>
            </a: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At the Airport</a:t>
            </a:r>
            <a:br>
              <a:rPr sz="40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J.01.01.01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Obrázek 3" descr="sablony-barevné.png"/>
          <p:cNvPicPr/>
          <p:nvPr/>
        </p:nvPicPr>
        <p:blipFill>
          <a:blip r:embed="rId1"/>
          <a:stretch/>
        </p:blipFill>
        <p:spPr>
          <a:xfrm>
            <a:off x="1403280" y="404640"/>
            <a:ext cx="6624720" cy="1366920"/>
          </a:xfrm>
          <a:prstGeom prst="rect">
            <a:avLst/>
          </a:prstGeom>
          <a:ln w="0">
            <a:noFill/>
          </a:ln>
        </p:spPr>
      </p:pic>
      <p:sp>
        <p:nvSpPr>
          <p:cNvPr id="41" name="Nadpis 1"/>
          <p:cNvSpPr/>
          <p:nvPr/>
        </p:nvSpPr>
        <p:spPr>
          <a:xfrm>
            <a:off x="826920" y="4076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ilan Junáš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Nadpis 1"/>
          <p:cNvSpPr/>
          <p:nvPr/>
        </p:nvSpPr>
        <p:spPr>
          <a:xfrm>
            <a:off x="900000" y="544500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kt:  Modernizace výuky pomocí I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Z.1.07/1.5.00/34.10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43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Basics of Aviatio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5373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t 1: At the Air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014480"/>
            <a:ext cx="4176720" cy="300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6165720"/>
            <a:ext cx="864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Unit 1:</a:t>
            </a: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66"/>
                </a:solidFill>
                <a:latin typeface="Arial"/>
              </a:rPr>
              <a:t>At the Air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</a:rPr>
              <a:t>Vocabul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87560"/>
            <a:ext cx="2232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tadlo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rminál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řílety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dlety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dbavení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ána (příchod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 letadlům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Řídící věž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170028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Airplane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1916280"/>
            <a:ext cx="302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jízdné schůdky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zletová dráh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jížděcí dráh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ůz na zavazadl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istern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estující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rvisní vůz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2563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306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645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Depar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221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Check in/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494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5640" y="55879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Control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389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Mobil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3892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Run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38920" y="29955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Taxi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8920" y="3571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Baggage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5640" y="414828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Fuel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5640" y="46530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Pass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5640" y="522936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Arial"/>
              </a:rPr>
              <a:t>Service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1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At the Air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1: Describe the picture using as many words as you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26920" y="1268280"/>
            <a:ext cx="74170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1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At the Air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66"/>
                </a:solidFill>
                <a:uFillTx/>
                <a:latin typeface="Arial"/>
              </a:rPr>
              <a:t>Task 2: Test your memory. You have 1 minute to stu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66"/>
                </a:solidFill>
                <a:uFillTx/>
                <a:latin typeface="Arial"/>
              </a:rPr>
              <a:t>the picture</a:t>
            </a: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File:Airport HB.jpg"/>
          <p:cNvPicPr/>
          <p:nvPr/>
        </p:nvPicPr>
        <p:blipFill>
          <a:blip r:embed="rId3"/>
          <a:stretch/>
        </p:blipFill>
        <p:spPr>
          <a:xfrm>
            <a:off x="1403280" y="1628640"/>
            <a:ext cx="6408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1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At the Air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66"/>
                </a:solidFill>
                <a:uFillTx/>
                <a:latin typeface="Arial"/>
              </a:rPr>
              <a:t>Do you remember the picture? Try to answ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66"/>
                </a:solidFill>
                <a:uFillTx/>
                <a:latin typeface="Arial"/>
              </a:rPr>
              <a:t>the questions below using true/fal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844640"/>
            <a:ext cx="8280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re is only one airplane in the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 airplane has wingl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re are three passenger b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 mobile steps are white with red stri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re isn´t a fuel truck near the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 passengers are getting a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e can see some palm trees behind the terminal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here is a flag opposite the air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1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At the Air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his is the end of th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Well don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860640"/>
            <a:ext cx="799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on´t forget there is one more task for you in your worksh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486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1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At the Air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864216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Used pi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1 – Frankfurt Airport.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eida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[cit. 2013-02-15]. Dostupný pod licencí Creative Commons na WWW: http://commons.wikimedia.org/wiki/File:Flughafen_Frankfurt_am_Ma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2 – Monastir Airport.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akowl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[cit. 2013-02-15]. Dostupný pod licencí Creative Commons na WWW: http://en.wikipedia.org/wiki/File:Airport_HB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. 3 –Sunset. russavia. [cit. 2013-02-15]. Dostupný pod licencí Creative Commons na WWW: http://en.wikipedia.org/wiki/File:Last_Glimpse_of_Sunset_%282885821239%2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640" y="-316080"/>
            <a:ext cx="82296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Cred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sentation background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Milan Juná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hotograph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Juná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media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viation information resource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ikipedia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icao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flightsim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www.ivao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ificati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dní škola letecké a výpočetní techniky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olena Voda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www.sslv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Junášek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07:51:30Z</dcterms:created>
  <dc:creator>Milan Junášek</dc:creator>
  <dc:description/>
  <dc:language>en-US</dc:language>
  <cp:lastModifiedBy>Milan Junášek</cp:lastModifiedBy>
  <dcterms:modified xsi:type="dcterms:W3CDTF">2013-07-02T06:24:00Z</dcterms:modified>
  <cp:revision>67</cp:revision>
  <dc:subject/>
  <dc:title>Snímek 1</dc:title>
</cp:coreProperties>
</file>